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0.wmf" ContentType="image/x-wmf"/>
  <Override PartName="/ppt/media/image4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7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8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9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DABF66-AE24-4D50-8495-C0D78D1527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kud chce příjemce předkládat MZ v intervalu po celých měsících (od 1. do 30.) je nutné, abychom mu upravili „hlavičku“ v M7+. Tzn. 5 pracovních dní před skutečných (novým) termínem ukončení monitorovaného období příjemce požádá svého PM O CERA o změnu dat předkládání MZ (mailem). PM potvrdí emailem a upraví v M7+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9B0B42-9BDF-4A3E-91CA-A28BC981BE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Vykazované indikátory se musí opírat o průkaznou evidenci vedenou příjemc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Výkazy o provedené práci, prezenční listiny, certifikáty, atd. – tj. doklady, kterými můžete prokázat dosažené číselné hodno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249246-74DC-479C-BC54-BBFD765DCF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0ABB9D-A509-46E8-9874-F1C083B892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pište, jakým způsobem jste ve sledovaném období informovali cílovou skupinu a širší veřejnost o Vašem projektu a jaké nástroje publicity jste využil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webové strán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tištěné materiá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audiovizuální materiá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filmové materiá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opagační předmě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semináře, kon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inzerce v médiích (tisk, TV, rozhlas, internet, ostatní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vazné aktivity povinné publicity jsou uvedeny v příloze č. 1 Rozhodnutí o poskytnutí dot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kud je součástí MZ Žádost o platbu, popište náklady spojené s povinnou publicit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E7EA49-A64B-417D-A734-83CE2FB90C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5C8409-A0B9-440A-8738-164BA262B5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29273F-20DE-4B26-BD7F-C9AC5FC376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A1BFA8-5B70-417D-B2EC-FDD1641664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4270D8-DEA6-44BE-AB07-BE344F4137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EDD393-121D-415B-BD33-BBBD7E2F13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měna, která má charakter podstatné změny projektu, nesmí být provedena před jejím schválením poskytovatelem podpory a před provedením úpravy nebo doplněním právního aktu o poskytnutí podp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33AC61-7F5A-4494-95F4-41C19315DB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D053A8-7CFA-4731-9D5C-12BFA5A926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066952-047B-4228-A234-EAC0DFC903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ůběžná monitorovací zpráva se odevzdává do 30 kalendářních dnů od ukončení monitorovacího období (první MZ po 3 měsících, další MZ pak po 6 měsících realizace projektu). Podepsané statutárním zástupcem. V zalepené obálce s adresou poskytovatele, jménem příslušného PM a registračním číslem projekt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věrečná monitorovací zpráva se váže k ukončení projektu, tj. k datu, které je uvedeno v právním aktu. Příjemce je následně povinen zpracovat a předložit poskytovateli podpory závěrečnou monitorovací zprávu společně se závěrečnou žádostí o platbu. Předkládá se do 2 měsíců od ukončení projekt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onitorovací zpráva o udržitelnosti se předkládá 1x ročně po dobu 5 let od ukončení projektu, případně po závaznou dobu udržitelnosti projektu, pokud byla v právním aktu o poskytnutí dotace stanovena odlišně. První monitorovací zpráva o udržitelnosti projektu bude předložena za období 12 měsíců od data ukončení realizace projektu uvedeného v právním aktu, a to nejpozději do 2 měsíců následujících po skončení tohoto období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D2E83E-8BED-4F36-B933-3EB8412CFF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ůběžná monitorovací zpráva se odevzdává do 30 kalendářních dnů od ukončení monitorovacího období (první MZ po 3 měsících, další MZ pak po 6 měsících realizace projektu). Podepsané statutárním zástupcem. V zalepené obálce s adresou poskytovatele, jménem příslušného PM a registračním číslem projekt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věrečná monitorovací zpráva se váže k ukončení projektu, tj. k datu, které je uvedeno v právním aktu. Příjemce je následně povinen zpracovat a předložit poskytovateli podpory závěrečnou monitorovací zprávu společně se závěrečnou žádostí o platbu. Předkládá se do 2 měsíců od ukončení projekt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onitorovací zpráva o udržitelnosti se předkládá 1x ročně po dobu 5 let od ukončení projektu, případně po závaznou dobu udržitelnosti projektu, pokud byla v právním aktu o poskytnutí dotace stanovena odlišně. První monitorovací zpráva o udržitelnosti projektu bude předložena za období 12 měsíců od data ukončení realizace projektu uvedeného v právním aktu, a to nejpozději do 2 měsíců následujících po skončení tohoto období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A8D3D2-4716-44E7-A43C-7514E2618A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CC9EF9-857C-47A4-A298-EAF5E7BDFD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6137-F193-43FE-B9AE-726F1A21B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C5C2-3D76-400C-B987-8681526D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20A88-0F82-44C6-843F-78C692AA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85D59-DF8E-4B64-89AC-50A899CF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F12E20-A0CE-44D8-BF2B-60EEE7C1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AD224-D785-45F9-AB1D-D4CEAC59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C0C4F-B59A-478E-9E47-9C355249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F907FF-435B-4519-BAF9-976B7914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7B255-A466-4252-AD22-B5EDED14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B6636-C557-4320-81C6-DDB474F7E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00531-7186-45F2-8DD4-4AD8AB85D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9285B-4CD5-4478-ACB2-355E447B9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43E3-C6DE-452D-85C7-B5CFC6025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E54203-2261-4944-91DB-B76B84AA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E780A6-5E68-4B63-B630-9E5B7255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AC3DC1-7241-41B9-99C3-CA8A34E8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498DA4-9C5A-44C9-B77E-240E1B3D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A6C64-612D-4FF6-8C38-AB58690E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8F1AF9-7B9D-4C0B-B4E0-2C8A436D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DA32C-005F-45FE-9CD2-EEAF54D4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37E2CC-3D78-4C61-AE4B-905D9235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019034-8158-4AB5-A088-722E3202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6257E2-88DE-4701-9C60-81624ED2D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90CC-A1CE-443E-AA11-55BB463CF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283101-DBFC-4D17-BA06-51A5D4C6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9782D-25E2-4DC8-A547-85D8393EC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0761C-784E-499B-A2A3-B6CE29B1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82ED6-41D0-47AC-A6B0-B25A809F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A6062-AC61-4CF0-A8D9-2A3CD5B7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0E691-640A-4BF1-9274-7B6D9FB0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1948F-148C-46EF-9423-04BF2D7B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F3BEE-45C8-40EB-94BE-5C3CD872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3B64E-0E91-436E-9BD2-5BFA5B42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597E1-A320-41E7-8A5E-98FF6FBB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A509-AD31-4935-8079-318AC0B2D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16297-84C4-4B9B-9780-7DCF7012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3A632-00BE-4492-AB98-CF69D049C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10CF9-B8BC-4C33-9273-3F426D835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D0228D-64B2-4C79-8692-1A980C1B0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EEF78C-BF82-422A-A4F0-56369EA6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900E32-7434-41BE-B780-079E12F3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FF9AB7-8356-4F2C-AED8-AFA7B4B7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8940CC-FB06-4BF8-9879-723A30DA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5E6D58-D814-4238-9E06-D11AA1B3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842D3A-3F6B-4916-85A6-0E74CF7C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53A2-E2A4-4102-8DF4-D7F4307E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0D04AC-0CED-494C-9AD2-94B8F061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1222A7-64AF-4A88-A66F-ABA4495B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FB6CFD-0B69-48F4-8D83-C7A20045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19A388-3B8A-489E-BA73-01C5C6790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78D6F6-2F78-4711-8137-7F5D35B9B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ED7B-E373-4F1A-B366-BB3E5036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9B0B-69E8-49A5-9605-61A74849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D76B-602E-4446-BEC3-6BA5280F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8281-8734-4817-B353-E06B776A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7244-BB88-4EBF-AFA4-CD7ACD0E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14FE-BB2E-4894-8F9D-DD32C7FA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97FA-03F0-4367-96F1-709845F9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2EF0-8369-474A-BED7-4F7AAD29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EFF3-5254-4892-AABC-D344E045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FE23-BF75-4767-82F6-025821DB9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A3A5-3454-468C-AAF8-928E5BD8A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B911D-A366-4DC3-8672-657A37709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32C8F-36F0-481E-9D81-2E5042DF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C539D-590E-46F8-978A-B8B35C4B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FF987-FA47-4132-9AF2-08CA0B0E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2BF90-F2BE-4B43-99DD-33D757F8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B5A8-604F-403D-9C98-D20A17F0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43EA4-4DC2-41B2-8E6B-06AD4EB9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C37C4-A921-4E20-AD28-294129D9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80513-0B86-4398-AE0D-703995E0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6DA15-6A3D-4FE1-8936-0D708349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FB1EB-D69A-47E6-8A8B-361D3D41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0EA16-5B90-4822-84D2-E4FA320B4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E5448-1AAC-48DB-9EC5-FCE3E6952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61C4F-F77C-41DF-A8C2-45B25509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5145B-55C2-4D24-87BB-8FBAF7C1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6A29A-2DFF-4EB2-89D3-7760EF42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0501-156A-4ADE-8FBD-9519B28E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2F5E1-17A5-44B8-A1CA-62C42BC1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8BD81-B9F4-4EC2-B872-B032471E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596FD-E769-4876-B700-7B54E96F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BD4DD-2235-4150-9817-6C5267C5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E242D-FAB2-4054-89D2-1BACEE2F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44E0A-5AD5-49D0-8679-E56580BD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90D6A-2B1E-49A2-8C57-AD3DD6BC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B5708-35F9-418D-B977-DB1FDE53C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18276-CB10-42C2-94D8-44EBF22F2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C6C57-9F86-4E5D-AF82-51700683C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3A52-F341-44EF-89E3-4DFFBAAF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99B6B-5583-4204-95A3-BAF21ADB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A2069-26F5-41D3-9894-BF29411D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10F55-3C2E-4D21-B8A8-CFD9D9FF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A3819-E1D0-4A0B-B74E-965772CA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D51A4-E464-41D2-8D05-DB49FCFE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44C89-FF8E-4E70-8606-B2F654CE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CE0B5-CBE0-4EF8-B4E5-63E09246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325AD-715B-4A08-AE97-47A47E45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03012-3010-429E-A710-D2BB6A82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9805D-56F8-4428-82E7-0D1ABFF68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3AEF-3F7C-4EB2-B103-19412FF4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D0520-457E-4A21-884D-E57ECE6DE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EAB2B-72C1-4ED9-BB97-C3C092BF9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A75C2-D692-4076-BDE8-1B785111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0530A-8E58-4D9F-A2D7-E277A3C0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264A9-1A51-46B1-BCCD-76D6E570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12D08-9421-457B-B7B7-DEB34492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7BC1A-DD10-465E-9647-34DA8442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1D892-D5C5-4E35-8756-A0802518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7158E-894F-4CD9-A2B4-F878A8A3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5312B-2EFF-4243-AD87-895357AA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B915-DA0B-4A09-928A-1803334B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5454D-051E-424F-B29C-029BDE81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F2E66-853E-4A20-8B94-DA2CCA35B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BC151-B879-44A4-891E-EE9F859C2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261BC-DCED-4539-B82C-067AEAA1E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E923E-9C24-4CF8-B749-D76C86A4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DA8BE-236B-44DC-9EE5-0D620D7F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9E08D-0E61-454D-A5F4-090B2328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5515F-A67E-4F15-9AE0-E63B8F05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A5EB9-72F0-4D5B-96DB-2A93B513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20424-2E3E-42E9-BE58-4979D031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7FB3-3150-4E0B-B34F-9BC3D1F0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7DC6F-1DB8-493C-A402-4F481A86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00D41-BA84-4894-B034-92467AD7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AD0FD-1CE8-418E-9E27-449F8448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874C0-1213-4E14-9300-1290FEB54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A6636-6468-4963-9ECD-3372FEA52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34FC8-C716-48BE-9AF8-BFAA93855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F879C-7A16-40E9-AF06-09412255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EBB9B-3854-4894-A02D-E7AC12E0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92214-D694-4744-8FEC-8BE7BFCA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B8980-9648-4664-9E9E-9958865E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2F9E-BE7A-4FF5-AAA0-0F1BF61A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31D6D-1C4D-49D8-A5AD-40584F4D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B697B-E25A-4F52-9388-E2E7553F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61C57-815F-4700-995D-920E9A85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9DD11-5AE5-422F-ACB9-7A49B051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73947-087F-432D-A912-6AAD35BA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F1AAC-D2F7-4D1E-8C61-B6E905C60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1EA69-875C-41C6-A188-67CAA9FE4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E5A7F-3E21-4D51-AF9E-538D333D4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91B88-7CEA-4927-B04E-1AF36AB2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8B639-C6E4-4BB8-A42A-69A0CADC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42E119-3915-48DC-A96E-A57DB39F57B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202E5B-3C2E-4B77-BA31-19DCB5213B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AFD9110B-3816-43B4-AC33-8F1BB72C5B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765BF9-3636-4FB8-AEA3-E62085344A3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B13429-95CB-4DAF-B5D9-5BF770809C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5F96E7-288A-4904-BF86-ADCE867BE15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EF1ADF-EEAD-4BBC-87C8-D6FD820A43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4A88C9-80D4-4F5F-8525-58AF3D51DDD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41D3ED-EB43-4D0B-BE85-418FCAA8CC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80DC1B-69CD-4A40-9586-8E41E8366DA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013C56-D592-47F4-AC5F-757A6CB972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CB91C7-55ED-45EE-8590-BADF20424FA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932930-F333-4868-AD64-8B505AE1AF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C28882-3E20-415B-B57D-603AD6F9FCA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AA1B1D-86DA-4DD4-8F88-9EBC52E921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DE30AF-7917-417E-8ACC-AB79DC0B8A9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2C67E5-6891-4DCA-8A38-686EC53273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441B9E-F63E-4D5C-96F7-4AC39245149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7D7988-86D0-4476-A61A-2FB824E476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FAA8D3-EE8E-46BA-8FB1-81B95C069FD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91156B-3ACD-4214-95EA-E864E3B3F0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290934-A2D1-4487-B71A-9868A71513F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C85E4D-9A85-4BFB-98EC-9B7442DBDF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FC57A3-80E9-4C25-B9CB-B6E23A94AB7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A76732-F58E-44E5-8AEB-BFFE35D5BB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0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msmt.cz/strukturalni-fondy/prirucka-pro-prijemce-op-vk-verze-4-platna-od-30-6-2010" TargetMode="External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166840"/>
            <a:ext cx="7772400" cy="17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Helvetica CE"/>
              </a:rPr>
              <a:t>Seminář pro příjemce</a:t>
            </a:r>
            <a:br>
              <a:rPr sz="3600"/>
            </a:br>
            <a:r>
              <a:rPr b="1" lang="cs-CZ" sz="3600" spc="-1" strike="noStrike">
                <a:solidFill>
                  <a:srgbClr val="f3912c"/>
                </a:solidFill>
                <a:latin typeface="Helvetica CE"/>
              </a:rPr>
              <a:t>finanční podpory z Operačního programu Vzdělávání pro konkurenceschopnost</a:t>
            </a:r>
            <a:br>
              <a:rPr sz="3600"/>
            </a:br>
            <a:br>
              <a:rPr sz="3600"/>
            </a:br>
            <a:r>
              <a:rPr b="1" lang="cs-CZ" sz="2800" spc="-1" strike="noStrike">
                <a:solidFill>
                  <a:srgbClr val="000000"/>
                </a:solidFill>
                <a:latin typeface="Helvetica CE"/>
              </a:rPr>
              <a:t>Veronika Šišperová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29840" y="105372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Harmonogram monitorovacích zpráv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B776B9-5434-4E67-AC00-0FC7256554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54" name="Picture 5" descr=""/>
          <p:cNvPicPr/>
          <p:nvPr/>
        </p:nvPicPr>
        <p:blipFill>
          <a:blip r:embed="rId1"/>
          <a:stretch/>
        </p:blipFill>
        <p:spPr>
          <a:xfrm>
            <a:off x="1538280" y="1746360"/>
            <a:ext cx="624996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371600" y="110916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Monitorovací indikátory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6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1A58A8-DD33-491F-A01C-D90C243FCB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58" name="Picture 7" descr=""/>
          <p:cNvPicPr/>
          <p:nvPr/>
        </p:nvPicPr>
        <p:blipFill>
          <a:blip r:embed="rId1"/>
          <a:srcRect l="0" t="22844" r="0" b="0"/>
          <a:stretch/>
        </p:blipFill>
        <p:spPr>
          <a:xfrm>
            <a:off x="2103480" y="1595520"/>
            <a:ext cx="495756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329840" y="91872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Dodavatelé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C09EC0-2DD9-4106-8394-BC19974D74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7" descr=""/>
          <p:cNvPicPr/>
          <p:nvPr/>
        </p:nvPicPr>
        <p:blipFill>
          <a:blip r:embed="rId1"/>
          <a:srcRect l="0" t="20531" r="0" b="0"/>
          <a:stretch/>
        </p:blipFill>
        <p:spPr>
          <a:xfrm>
            <a:off x="2255760" y="1459080"/>
            <a:ext cx="44514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71600" y="96948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Výběrová řízení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2ABCD0-49D7-49A2-8C3A-6DAFFE9BF8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66" name="Picture 8" descr=""/>
          <p:cNvPicPr/>
          <p:nvPr/>
        </p:nvPicPr>
        <p:blipFill>
          <a:blip r:embed="rId1"/>
          <a:srcRect l="0" t="18774" r="0" b="0"/>
          <a:stretch/>
        </p:blipFill>
        <p:spPr>
          <a:xfrm>
            <a:off x="2475000" y="1373040"/>
            <a:ext cx="421164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329840" y="929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Výběrová řízení - detaily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F4D95F-4E3B-4673-B656-7FA0E2E1D4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6" descr=""/>
          <p:cNvPicPr/>
          <p:nvPr/>
        </p:nvPicPr>
        <p:blipFill>
          <a:blip r:embed="rId1"/>
          <a:srcRect l="0" t="0" r="0" b="46962"/>
          <a:stretch/>
        </p:blipFill>
        <p:spPr>
          <a:xfrm>
            <a:off x="588960" y="1415880"/>
            <a:ext cx="4151160" cy="31132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6" descr=""/>
          <p:cNvPicPr/>
          <p:nvPr/>
        </p:nvPicPr>
        <p:blipFill>
          <a:blip r:embed="rId2"/>
          <a:srcRect l="0" t="67407" r="0" b="0"/>
          <a:stretch/>
        </p:blipFill>
        <p:spPr>
          <a:xfrm>
            <a:off x="4556160" y="3852720"/>
            <a:ext cx="437364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371600" y="968400"/>
            <a:ext cx="628344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Publicita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3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803A8B-BD6B-47FA-8111-1204932593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6" descr=""/>
          <p:cNvPicPr/>
          <p:nvPr/>
        </p:nvPicPr>
        <p:blipFill>
          <a:blip r:embed="rId1"/>
          <a:srcRect l="0" t="28022" r="0" b="0"/>
          <a:stretch/>
        </p:blipFill>
        <p:spPr>
          <a:xfrm>
            <a:off x="2152800" y="1535040"/>
            <a:ext cx="544176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330200" y="110916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Klíčové aktivity projektu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6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44A8A7-B2D7-472D-B3B2-F37868F456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78" name="Picture 7" descr=""/>
          <p:cNvPicPr/>
          <p:nvPr/>
        </p:nvPicPr>
        <p:blipFill>
          <a:blip r:embed="rId1"/>
          <a:srcRect l="0" t="25624" r="0" b="0"/>
          <a:stretch/>
        </p:blipFill>
        <p:spPr>
          <a:xfrm>
            <a:off x="351000" y="1490760"/>
            <a:ext cx="4505040" cy="36036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8" descr=""/>
          <p:cNvPicPr/>
          <p:nvPr/>
        </p:nvPicPr>
        <p:blipFill>
          <a:blip r:embed="rId2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0" descr=""/>
          <p:cNvPicPr/>
          <p:nvPr/>
        </p:nvPicPr>
        <p:blipFill>
          <a:blip r:embed="rId3"/>
          <a:stretch/>
        </p:blipFill>
        <p:spPr>
          <a:xfrm>
            <a:off x="4600440" y="2498760"/>
            <a:ext cx="441180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371600" y="966600"/>
            <a:ext cx="6283440" cy="56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 </a:t>
            </a: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Harmonogram klíčových aktivit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3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8B6927-ACF8-4C1C-9164-0F3B74E593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6" descr=""/>
          <p:cNvPicPr/>
          <p:nvPr/>
        </p:nvPicPr>
        <p:blipFill>
          <a:blip r:embed="rId1"/>
          <a:srcRect l="0" t="30100" r="0" b="0"/>
          <a:stretch/>
        </p:blipFill>
        <p:spPr>
          <a:xfrm>
            <a:off x="2008080" y="1531800"/>
            <a:ext cx="557856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371600" y="979560"/>
            <a:ext cx="628344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Kontroly na místě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6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5F9046-21E6-4968-866A-A85EDCCA2F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88" name="Picture 6" descr=""/>
          <p:cNvPicPr/>
          <p:nvPr/>
        </p:nvPicPr>
        <p:blipFill>
          <a:blip r:embed="rId1"/>
          <a:srcRect l="0" t="21759" r="0" b="0"/>
          <a:stretch/>
        </p:blipFill>
        <p:spPr>
          <a:xfrm>
            <a:off x="2381400" y="1414440"/>
            <a:ext cx="484956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330200" y="966600"/>
            <a:ext cx="6283440" cy="56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Změny v monitorovací zprávě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0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34FC36-DECC-4517-8160-6C6E620234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92" name="Picture 6" descr=""/>
          <p:cNvPicPr/>
          <p:nvPr/>
        </p:nvPicPr>
        <p:blipFill>
          <a:blip r:embed="rId1"/>
          <a:stretch/>
        </p:blipFill>
        <p:spPr>
          <a:xfrm>
            <a:off x="2033640" y="1433520"/>
            <a:ext cx="50436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Doba realizace projektu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Zahájení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atum akceptace Rozhodnutí o poskytnutí dotac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bo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zdější datum uvedené v projektové žádosti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atum uvedené v právním akt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BDA62B-0E13-4CF9-860B-31CA5E683E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330200" y="995400"/>
            <a:ext cx="628344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Přílohy monitorovací zprávy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E0F48D-D242-444A-954B-6FEF320F2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96" name="Picture 6" descr=""/>
          <p:cNvPicPr/>
          <p:nvPr/>
        </p:nvPicPr>
        <p:blipFill>
          <a:blip r:embed="rId1"/>
          <a:stretch/>
        </p:blipFill>
        <p:spPr>
          <a:xfrm>
            <a:off x="2666880" y="1430280"/>
            <a:ext cx="344016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Helvetica CE"/>
              </a:rPr>
              <a:t>Přílohy k Monitorovací zprávě</a:t>
            </a:r>
            <a:endParaRPr b="1" lang="en-US" sz="4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9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426B41-8136-4626-852D-192829A8A7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371600" y="675360"/>
            <a:ext cx="628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cs-CZ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1371600" y="1382760"/>
            <a:ext cx="62834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Čestné prohlášení statutárního zástupce jako pevná součást tištěné verze monitorovací zprávy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Podpisový vzor osob oprávněných k podepisování a schvalování dokumentů a operací v rámci projektu OP V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2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3D9574-FD82-4E4B-A316-43737A5F3F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792440" y="480816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cs-CZ" sz="20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cs-CZ" sz="1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6" name="Zástupný symbol pro číslo snímk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92166C-AD09-4C62-989B-FE4D45E09E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8" descr=""/>
          <p:cNvPicPr/>
          <p:nvPr/>
        </p:nvPicPr>
        <p:blipFill>
          <a:blip r:embed="rId2"/>
          <a:stretch/>
        </p:blipFill>
        <p:spPr>
          <a:xfrm>
            <a:off x="633240" y="1212840"/>
            <a:ext cx="770904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alší zdroj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Web MŠMT – sekce Strukturální fondy – OP VK – Pro žadatele a příjemce – Příručka pro příjemce: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Helvetica CE"/>
                <a:hlinkClick r:id="rId1"/>
              </a:rPr>
              <a:t>http://www.msmt.cz/strukturalni-fondy/prirucka-pro-prijemce-op-vk-verze-4-platna-od-30-6-2010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radenství v rámci individuálních konzultací s projektovými manažer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67780F-4B8B-49E7-994F-F50EA32399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Děkuji za pozornos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Ing. Veronika Šišperová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eronika.sisperova@msmt.cz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3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19F309-0085-4D41-8A17-521FCEA87F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Doba realizace projektu</a:t>
            </a:r>
            <a:br>
              <a:rPr sz="28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Změna data ukonče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dstatná změna projektu.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ožná pouze v řádně odůvodněných a schválených případech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Způsobilé výdaje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Od data zahájení projektu do data ukončení projekt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 datu ukončení pouze výdaje bezprostředně související s realizací projektu např. audit projektu, mzdy pracovníků projektu, kteří uzavírají projekt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9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847FEB-C9F1-42F8-A19D-BCE9A435DC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Pravidla monitorování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Monitorovací zpráv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ůběžná monitorovací zpráva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ávěrečná monitorovací zpráva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onitorovací zpráva o udržitelnosti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8FC871-285C-40F2-B236-EE7A3D526E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Helvetica CE"/>
              </a:rPr>
              <a:t>Věcná část Monitorovací zprávy</a:t>
            </a: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5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03BEBF-4C9F-4E22-A30E-006566B2D5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329840" y="1246320"/>
            <a:ext cx="645804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Elektronická monitorovací zpráv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edkládá se prostřednictvím aplikace Benefit 7+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íručka pro vytvoření monitorovací zprávy v B7+  s technický i metodickým postupem bude uveřejněna na webu MŠMT na přelomu měsíce ledna a únor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alší informace (struktura, přílohy) k předkládání elektronické monitorovací zprávy budou uveřejněny na webu MŠMT ve stejné době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B0468B-EC5A-4197-ADC4-54F70196CC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cs-CZ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FEC0F2-F197-4FFB-B102-7F76391FCA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rcRect l="2724" t="11681" r="3377" b="10612"/>
          <a:stretch/>
        </p:blipFill>
        <p:spPr>
          <a:xfrm>
            <a:off x="642960" y="1158840"/>
            <a:ext cx="76518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0280" y="966960"/>
            <a:ext cx="781524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Údaje o projektu a monitorovací zprávě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EF57F6-376D-426D-9D37-E3BD8B95E9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"/>
          <p:cNvPicPr/>
          <p:nvPr/>
        </p:nvPicPr>
        <p:blipFill>
          <a:blip r:embed="rId1"/>
          <a:srcRect l="0" t="0" r="0" b="32472"/>
          <a:stretch/>
        </p:blipFill>
        <p:spPr>
          <a:xfrm>
            <a:off x="369720" y="1392120"/>
            <a:ext cx="4759560" cy="40068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6" descr=""/>
          <p:cNvPicPr/>
          <p:nvPr/>
        </p:nvPicPr>
        <p:blipFill>
          <a:blip r:embed="rId2"/>
          <a:srcRect l="0" t="67243" r="0" b="0"/>
          <a:stretch/>
        </p:blipFill>
        <p:spPr>
          <a:xfrm>
            <a:off x="3886200" y="3591000"/>
            <a:ext cx="509112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Údaje o příjemci, kontaktní osobě a zhotoviteli monitorovací zprávy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F31BFC-AADB-425E-9181-A91DB5B9C6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6" descr=""/>
          <p:cNvPicPr/>
          <p:nvPr/>
        </p:nvPicPr>
        <p:blipFill>
          <a:blip r:embed="rId1"/>
          <a:srcRect l="0" t="0" r="0" b="30166"/>
          <a:stretch/>
        </p:blipFill>
        <p:spPr>
          <a:xfrm>
            <a:off x="465120" y="1746360"/>
            <a:ext cx="4788000" cy="34574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6" descr=""/>
          <p:cNvPicPr/>
          <p:nvPr/>
        </p:nvPicPr>
        <p:blipFill>
          <a:blip r:embed="rId2"/>
          <a:srcRect l="0" t="73928" r="0" b="0"/>
          <a:stretch/>
        </p:blipFill>
        <p:spPr>
          <a:xfrm>
            <a:off x="4151160" y="4332240"/>
            <a:ext cx="48038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1-18T07:29:04Z</dcterms:modified>
  <cp:revision>295</cp:revision>
  <dc:subject/>
  <dc:title>Titulní strana – Titulek</dc:title>
</cp:coreProperties>
</file>